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16.xml.rels" ContentType="application/vnd.openxmlformats-package.relationships+xml"/>
  <Override PartName="/ppt/notesSlides/_rels/notesSlide14.xml.rels" ContentType="application/vnd.openxmlformats-package.relationships+xml"/>
  <Override PartName="/ppt/notesSlides/notesSlide14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57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27.png" ContentType="image/png"/>
  <Override PartName="/ppt/media/image4.png" ContentType="image/png"/>
  <Override PartName="/ppt/media/image34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10.png" ContentType="image/png"/>
  <Override PartName="/ppt/media/image47.png" ContentType="image/png"/>
  <Override PartName="/ppt/media/image45.png" ContentType="image/png"/>
  <Override PartName="/ppt/media/image46.png" ContentType="image/png"/>
  <Override PartName="/ppt/media/image50.png" ContentType="image/png"/>
  <Override PartName="/ppt/media/image13.png" ContentType="image/png"/>
  <Override PartName="/ppt/media/image11.png" ContentType="image/png"/>
  <Override PartName="/ppt/media/image48.png" ContentType="image/png"/>
  <Override PartName="/ppt/media/image51.png" ContentType="image/png"/>
  <Override PartName="/ppt/media/image52.png" ContentType="image/png"/>
  <Override PartName="/ppt/media/image30.jpeg" ContentType="image/jpeg"/>
  <Override PartName="/ppt/media/image41.png" ContentType="image/png"/>
  <Override PartName="/ppt/media/image53.png" ContentType="image/png"/>
  <Override PartName="/ppt/media/image42.png" ContentType="image/png"/>
  <Override PartName="/ppt/media/image54.png" ContentType="image/png"/>
  <Override PartName="/ppt/media/image43.png" ContentType="image/png"/>
  <Override PartName="/ppt/media/image55.png" ContentType="image/png"/>
  <Override PartName="/ppt/media/image44.png" ContentType="image/png"/>
  <Override PartName="/ppt/media/image56.png" ContentType="image/png"/>
  <Override PartName="/ppt/media/image40.png" ContentType="image/png"/>
  <Override PartName="/ppt/media/image39.png" ContentType="image/png"/>
  <Override PartName="/ppt/media/image9.png" ContentType="image/png"/>
  <Override PartName="/ppt/media/image38.png" ContentType="image/png"/>
  <Override PartName="/ppt/media/image8.png" ContentType="image/png"/>
  <Override PartName="/ppt/media/image49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  <p:sldId id="280" r:id="rId46"/>
    <p:sldId id="281" r:id="rId47"/>
    <p:sldId id="282" r:id="rId48"/>
    <p:sldId id="283" r:id="rId49"/>
    <p:sldId id="284" r:id="rId50"/>
    <p:sldId id="285" r:id="rId5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slide" Target="slides/slide25.xml"/><Relationship Id="rId47" Type="http://schemas.openxmlformats.org/officeDocument/2006/relationships/slide" Target="slides/slide26.xml"/><Relationship Id="rId48" Type="http://schemas.openxmlformats.org/officeDocument/2006/relationships/slide" Target="slides/slide27.xml"/><Relationship Id="rId49" Type="http://schemas.openxmlformats.org/officeDocument/2006/relationships/slide" Target="slides/slide28.xml"/><Relationship Id="rId50" Type="http://schemas.openxmlformats.org/officeDocument/2006/relationships/slide" Target="slides/slide29.xml"/><Relationship Id="rId51" Type="http://schemas.openxmlformats.org/officeDocument/2006/relationships/slide" Target="slides/slide30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5" name="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6" name="PlaceHolder 1"/>
          <p:cNvSpPr>
            <a:spLocks noGrp="1"/>
          </p:cNvSpPr>
          <p:nvPr>
            <p:ph type="dt" idx="39"/>
          </p:nvPr>
        </p:nvSpPr>
        <p:spPr>
          <a:xfrm>
            <a:off x="3884760" y="0"/>
            <a:ext cx="29700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 type="sldImg"/>
          </p:nvPr>
        </p:nvSpPr>
        <p:spPr>
          <a:xfrm>
            <a:off x="1143000" y="448920"/>
            <a:ext cx="4570560" cy="39006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 type="sldNum" idx="40"/>
          </p:nvPr>
        </p:nvSpPr>
        <p:spPr>
          <a:xfrm>
            <a:off x="3884760" y="8685000"/>
            <a:ext cx="29700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39E35737-34FA-4E38-95B8-B6E310CB97FE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11F9C43-D3E3-4034-8637-14ECD479CB3E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  <a:ea typeface="Lucida Sans Unicode"/>
            </a:endParaRPr>
          </a:p>
        </p:txBody>
      </p:sp>
      <p:sp>
        <p:nvSpPr>
          <p:cNvPr id="976" name="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11F236A8-79D1-4AAF-B3C5-4CE5DC38CA62}" type="slidenum">
              <a:rPr b="0" lang="ru-RU" sz="12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55328-5735-4E5C-A037-7F11A62A0A7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75786B-9430-4425-96AA-FEFF3B454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0071539-3C74-4740-8DC1-C591E4A41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365D6E1-D01F-4749-A0A0-6703430004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111CA4A-A9C6-4970-AA35-E9B5B8E66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E4E4E-6B93-4E3F-AE82-3CD4B984A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B16F31F-13CA-4FC7-978E-AE40D4E7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C1612CD-5422-491F-8D35-D854FE5C6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5AE1C3-703A-4246-ADD6-9D1912DFC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ECB95-9548-4A33-BA79-3092387CA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8C3DE3-8912-4756-8FE6-6E88F4087C0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4165414-DDFB-4EE2-B467-CA12022CE608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23AB8B-4DF6-4368-A004-287CB26D3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AE6C2DD-305A-4883-998A-222954619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14B8D67-AD89-410B-8FEF-75CFBA694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9837CB91-B60E-460A-8F3A-683CD7420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542FD41-0890-4756-8795-096D9E792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6827409-42A6-4798-86C2-7170A8B5E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CC2F270-96AF-4E7F-9765-3A2C0DE38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B3E5E69-552F-4BFC-A7EE-C1490D184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A700BC1-FC91-4AF4-800C-F22719782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87C5F91-AC04-42BA-90D2-22AF34EC5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13079B9E-C349-41E2-A9CD-E0C4162E5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46C7B4-A0CE-42AB-A344-D2F28F5B747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83651E2-A5D5-43C8-B03B-187149DDA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9137485-0A83-44D8-BEFB-93335055289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96AC736-B699-44CC-8A33-AF83CC13E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4B232A9-A023-465A-8464-4CC14ACA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818AD25-D77D-4DA0-A967-CC3FB347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886D4157-1271-4DFB-A4D9-8426F2F0A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EBB384B-CD9A-407F-B868-18F1DB95DB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7C31CF8-D4C2-4167-B630-8953EA819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5F14AAD-8947-4C09-916F-D8BB6587C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CBFC582-2D50-4085-9F92-400889E5F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C62F74B-A228-4F29-9148-2C6D518341D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7FF9B62-7ECF-4DF2-B23F-CE362C80A9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C6B4E56C-0864-42C1-A892-7B1DBB5DE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354DC894-8525-4BE6-A728-127E1B345582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CEA07A-7F64-41FC-8A66-5A03063ECF6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1EF6FE-5011-4518-BC72-0C8E6B44C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224554-CEEB-46B3-B117-EFF7C15E81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362DAB-1BE2-4BC8-979D-76008D641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437777-B9D6-40EB-8B36-616EFD529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3DCBEE-F8EF-453F-A1EC-5857EC459A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8E468-08DB-4259-9793-70EBDF1DFE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83742F-DF80-4E13-A7C2-D2B00FEA9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DFEF7EE-A672-4B0D-866C-AA1170569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E256F-E58F-46E8-8905-721EE9453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02E1777-7A21-4ED2-8CD6-3DD7D96FC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F800F01-778B-4691-8C4A-4E9B3D522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83EFBE-0F54-42AC-BCB0-00DE05178B7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0DA8AE4-CDE7-47E4-948A-F9D5E3B83E9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2BBF68F-E0A3-480B-847A-E00A8B128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E0D6A200-6D8F-4C59-92F0-00D074965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97A805A-B1B5-4809-A14B-BA03899B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95E47C6-CF13-462A-A547-67A296A86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BBF3AFC-4EAE-45E2-853F-292F11A779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28E365A-09A5-432C-8878-7F7B08FF68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C8FB5015-0F85-4858-9530-C32390C92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4326227-42CC-4FF6-8D19-555C020A6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0EFE3F9-91D4-49E7-95D2-F2E67954D1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2F890E9-9967-40E2-9D35-16CBD953E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30C45F62-DECF-46C8-9CB8-0C742B201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5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F5592787-EBAA-40E9-844B-89821136F978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95479A9-0B5F-482C-99A6-DBF5AE892D0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76866FF-11FF-40A3-BDE2-D5679AAC9F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95A3C11-A9AD-455D-85E6-36374AEE9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B765BE-F51F-45E1-94DA-F1C8C4CBE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3E0BBCC-E4B7-4333-92AE-6A673B98C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70E9397-CF80-404D-B3A0-31EDC238E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5F9D84B-920C-47E2-AC14-9B45EC4B6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BFF2FE5-2420-4ABF-B6A4-5DFCDA1E2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3F27EC9-75A5-45F7-8A45-EC9A96DFB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891D641A-A2BD-4502-B6CB-61186EB23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08C7859-E383-437C-83B6-391EF2507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2532D8-6ED7-4DB5-8462-A30A77FBD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1FB3C4-C8D1-461D-B83F-1526CDF4CF2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B4DAE6-EA06-4AB3-A30B-84E12EE70AC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88C045E-30A7-493E-BA36-E6C990675C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7BC030-EA67-4A93-B9F6-4769F9D0E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9C18630-1714-44ED-9E50-70EF02F1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65674A-6737-4DED-9F44-2978F353A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D29E39-CD2C-4061-AD50-4232FED1A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59E2FC-3002-4C41-9AEB-CB590E0E93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C9B8CE-D5DD-497A-98A0-1792FC321C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2EE830-A36E-42F3-BA27-48BA4FA5C6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0C7035-9A02-4679-B673-509C5D1F1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2FD0896-0406-4050-A939-2637F6B96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A5D474-411A-4B76-8B47-48466708D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51A7141-220C-4488-99B8-1560C0094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1787CBF-D5E9-4F28-84A8-B063E581C9B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982966BF-DDE9-4B43-90D3-0A54EF7AECB3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BF1AA4F-5FDD-4FB7-BFB0-020E72CB0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28B1387-12D2-49E2-95F1-E630CF88C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4F58BB7-B3CB-4B8F-AB15-A9F12167CD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FDF3A65-608D-4D83-B297-D78B20D47A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3FCBD6-96B7-4602-A04A-F8BFB60D8A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7733731-80F8-4970-A055-0749D4777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7D55B0E-E735-4C6B-B702-88EBD931E7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CD74DB8-992D-41D2-A453-6CD8BEACC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AE96BD2-2A41-4385-BBBC-C062BF2797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651224C5-3FB9-489C-A889-F2B3563BB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2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2CEEF71-B6AC-497C-A1C1-49BFB3273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7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8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9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3AE8E4A-6ADA-47BA-9A20-C2F7B5F28A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55D910E-389A-433E-8565-2D685CF7E55F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84A8D5C-E109-414F-B69C-A5109C5D6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131618-25C4-4703-94D9-E59BF12BB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90D9D44-F073-4D5A-A002-B5B74B3EE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FCA0A81-47F2-4F95-9946-82639926F9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4EBEDA0-8B5E-4DC0-8A20-F677D10B9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29B7EC-07D4-4994-B34F-35BD770DC2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74EB5-051D-4B49-94D9-54BFC0CFC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A294CD-11D7-437D-B6E8-A9C7B16E9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7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91B466E-3FBF-4843-8E8D-8E913C094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4AA2B54-7633-4A58-82AD-58958C3E6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A9E94F1-9796-41EB-A940-7E6875D45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9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BCA02E3-0390-43B1-92E3-66A94AF53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4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5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6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8DFFA3-36CF-425C-9B6F-3773404552C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6B15AB-2B0B-4675-871B-4B1D4CDAEBC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AE7F9E-9D40-4BBF-B7D9-127D192AE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4DD7A0E-44B4-45D8-BE98-581D15475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CF621-4AEB-4D72-A75E-8552835D2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78C473-FF56-4456-B724-6B9E08D9F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7AE3A9A-6F97-422A-A469-A673D6334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F81537-FE46-4DC9-A8FD-55450DF186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1B587F-BB96-47A9-BA0C-D8F90F0C2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D4AF038-128C-4333-853A-F4F921D0C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7D7B08E-A863-44F8-A585-9CA67FA9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5BA2DB-82BE-476E-9388-4C6732493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EF5F25D-E4C4-47AA-A8ED-ECB0510D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2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3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4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B30C36-F6B9-460A-A446-89E293DAAC6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FE57307-6A03-4FCB-82BA-15FCD2419611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26AB85E-1F91-489B-9C70-F4E5F732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C6B5FA-8B2D-47FF-9E17-33F327DC28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575CBBD-DD23-428E-BD31-0514C799D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6236A9B-00A2-44F3-B20B-EA7FDBEDA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1D0C398-A1DA-4208-AF3C-1D00B340C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429FFD-A9D3-434C-95DD-A6AE1224D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4D5C89F7-A246-4D8A-A4DA-521FED369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63FB84C-1800-4DF0-B1F2-AA7B28FCF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56B60A1-3C18-4B7D-B493-2056F00D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35BCCC2-1605-4D62-A2D6-72E59133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0FBCA98-C443-4CB3-A7DF-7C0665D8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AAE6384-8425-40AC-A532-DBD14A6CE64D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9DE7BC-9C9F-4AF9-8725-E81D74E64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D1311C-5FCF-4248-9016-912209B9533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1B26-0467-42AA-8BF2-75874946750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C4122-CCBC-4D7C-B0AE-C10BAEC93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39B03-04C5-44C6-9128-F764D60BF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75C110-0193-4B22-B33B-6699A53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C5D9D-B764-41A5-B5DE-13B82AF85F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AC0D8C-14BC-4360-B89A-D6BCA485F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AAB26-F08F-4735-A58B-6062C6566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05E3C-2E52-491B-A5F3-AB47598F6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FBF9-9FE8-4528-8751-4D192D4CF7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B0703-F4D7-44B4-AF69-3DF84417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A1353-377B-4103-840B-6D02E7E1A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3A5A2-424A-44A6-BA47-FAFC1994B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5798-E5C8-4274-90B1-D60298BA1B94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5E6CBA-8703-4C70-BEA1-CD88378233B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2514ADA-8D17-49DE-92C2-25E20EA4E9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327390-EF8B-494B-9048-DF6CCFD1E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82647-AD42-4F66-AB1B-20CAA3190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145B25C-4CEE-4AAD-9C05-A7B509CF2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7E38C4-0338-43DE-AD39-1064183AD4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4E1171-ECBA-4055-8669-572FD2D593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2E3B2CF-75CA-47AB-A699-724172E7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AAF733-62B7-4A5F-9B0B-C8F5EAE87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4F117D8-5B59-4CC6-BD06-FD8197A963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A17F9C-16AD-433D-8F54-471646B6E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573A0D-4E90-4F96-9D16-603ACFBA9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2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3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E14F8-F99A-452E-A8E3-E140F97A237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B3010B-CC4C-4E26-9AA4-180D34093ED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7244D0-080D-4B27-A570-EB91DCF2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466F61-7EBA-40BC-B72D-46135698E4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988D17-C629-4DC5-8DFC-29B0000CE7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2458B7-48A2-4C9D-937A-43DC43453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46169-BD82-4A66-972C-0D656ED17A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293A56-6035-480E-956B-6BB3901907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80D460F-9B4C-4FA9-87F5-3F78EC212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91F4DD-A0E8-4803-B550-9B1F3C0556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6176-2D09-4A2B-AC38-84C6C3374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FEE4B0-0C96-4935-9F13-93CBA7266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EAEBAE-6DD3-433E-8245-C4E16E99F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1590B-66E1-4A6D-8AEE-1CE6598353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6B911-C14C-4D5A-AF72-4635641FE33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680F1A-72BF-4C49-B8BD-DB9C411E4CD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3943F8-813E-497E-8B03-7D097400B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52F907-826B-40BF-BE94-71A4B92C7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6FD93-E362-4AF4-810A-BA07EE65D8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45F71BC-0208-4529-BE34-492764F9D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1F2766-BAB5-4D13-A20A-D832D5A8E0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F476B-87EE-4D14-858A-A259E8005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EBB658-FBF1-4BFB-BFBC-F7C19A8A6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404304-49E4-4ED2-9E42-679816042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D2317-1E99-44CE-9CB9-49C848D7DA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A106D3B-0C70-4A17-8EE8-6F3B6592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362C656-98E0-4C03-98F8-309376B8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0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1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6CFDD5-B50B-42A8-8172-1918B506875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FA0CBD0-CBE6-4DB6-BBBF-946F1028928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991B636-2C73-4DFC-842D-B03C82E87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E955E8E-480E-401A-B81D-5F6FC8D098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5AC7454-D61C-4AC0-9251-D523C9EBD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8793607-4DF7-404B-BF31-D93EC16EA9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8723BE3-FEA6-4A42-81EF-E261B4F7DB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41B4DBD9-A48C-4019-9A71-9676E6C64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B5C307-76C3-4FB4-A12E-B3AB12391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2E7EC70-F4B4-4815-9655-0CB0086CC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E3796DA-9612-4D21-890A-5AE47D6902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998773-E2AD-4A66-A9B0-3056671FC1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83BA8E0-323E-4AA9-A4C9-F5A0B8F07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C3520-CCCF-4552-BCF2-2B0E26F67D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BED3C89-3C94-45F5-B72F-D7158EEBFF9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B00731A-6F22-4B38-B39B-2ADC7D546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F01118-C290-42B2-8621-9057C8335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BF8292F-697B-4C90-845A-0D9BEE695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4ED5204-A8AB-458B-8FCF-CED603936D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76F17E-7DE2-42C3-8F86-8E0028688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ubTitle"/>
          </p:nvPr>
        </p:nvSpPr>
        <p:spPr>
          <a:xfrm>
            <a:off x="457200" y="-484200"/>
            <a:ext cx="8228160" cy="1080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9F782F4-38F9-4C25-88BC-FAA2345213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673AE46-ABF9-4623-8E98-AC5C989B28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2004411-D742-4ED7-A63B-9C550A49E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E2C551A-7E1F-461B-868F-044A336A3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57200" y="4226760"/>
            <a:ext cx="822816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6C359D2-6B5A-4A0D-9E05-FB2512232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3520" y="193464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5720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1" name="PlaceHolder 5"/>
          <p:cNvSpPr>
            <a:spLocks noGrp="1"/>
          </p:cNvSpPr>
          <p:nvPr>
            <p:ph/>
          </p:nvPr>
        </p:nvSpPr>
        <p:spPr>
          <a:xfrm>
            <a:off x="4673520" y="4226760"/>
            <a:ext cx="401508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EF47A67-0E12-43DF-9F52-8BAACF35B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323928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6021360" y="193464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6" name="PlaceHolder 5"/>
          <p:cNvSpPr>
            <a:spLocks noGrp="1"/>
          </p:cNvSpPr>
          <p:nvPr>
            <p:ph/>
          </p:nvPr>
        </p:nvSpPr>
        <p:spPr>
          <a:xfrm>
            <a:off x="45720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7" name="PlaceHolder 6"/>
          <p:cNvSpPr>
            <a:spLocks noGrp="1"/>
          </p:cNvSpPr>
          <p:nvPr>
            <p:ph/>
          </p:nvPr>
        </p:nvSpPr>
        <p:spPr>
          <a:xfrm>
            <a:off x="323928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8" name="PlaceHolder 7"/>
          <p:cNvSpPr>
            <a:spLocks noGrp="1"/>
          </p:cNvSpPr>
          <p:nvPr>
            <p:ph/>
          </p:nvPr>
        </p:nvSpPr>
        <p:spPr>
          <a:xfrm>
            <a:off x="6021360" y="4226760"/>
            <a:ext cx="2649240" cy="209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6BA5B56-C63A-46C6-BCB6-23A04D92A77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D546A5-42DF-4A66-A1B9-9F38CCED159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857DE29-5E4B-45D4-9454-BB8AED320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201BB2-ADA5-4E12-BB4F-CC96D1CF2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7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320" y="6356160"/>
            <a:ext cx="76068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7AEFFE6D-1A5D-4B49-8B1A-038E1B7E819E}" type="slidenum">
              <a:rPr b="0" lang="ru-RU" sz="1800" spc="-1" strike="noStrike">
                <a:solidFill>
                  <a:srgbClr val="000000"/>
                </a:solidFill>
                <a:latin typeface="Constantia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80720" cy="648000"/>
            <a:chOff x="-19080" y="203040"/>
            <a:chExt cx="9180720" cy="64800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5160" cy="648000"/>
              <a:chOff x="-19080" y="203040"/>
              <a:chExt cx="9155160" cy="64800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284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1440" cy="1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360" bIns="-4536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80720" cy="561960"/>
              <a:chOff x="-19080" y="247680"/>
              <a:chExt cx="9180720" cy="56196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64880" cy="561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1440" cy="1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5000" bIns="-450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19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4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 type="sldNum" idx="20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339C890-3FC1-45D4-BC27-4294E04D83E4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 type="dt" idx="21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 type="sldNum" idx="22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5608A908-24B0-4525-B8C2-4B6BFF202F6E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pic>
        <p:nvPicPr>
          <p:cNvPr id="475" name="" descr=""/>
          <p:cNvPicPr/>
          <p:nvPr/>
        </p:nvPicPr>
        <p:blipFill>
          <a:blip r:embed="rId3"/>
          <a:stretch/>
        </p:blipFill>
        <p:spPr>
          <a:xfrm>
            <a:off x="685008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 type="dt" idx="23"/>
          </p:nvPr>
        </p:nvSpPr>
        <p:spPr>
          <a:xfrm>
            <a:off x="35827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 type="sldNum" idx="24"/>
          </p:nvPr>
        </p:nvSpPr>
        <p:spPr>
          <a:xfrm>
            <a:off x="6414840" y="6352920"/>
            <a:ext cx="45540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255036-402D-41C2-A1A3-5957E2430DC1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0" name=""/>
          <p:cNvSpPr/>
          <p:nvPr/>
        </p:nvSpPr>
        <p:spPr>
          <a:xfrm>
            <a:off x="35812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" descr=""/>
          <p:cNvPicPr/>
          <p:nvPr/>
        </p:nvPicPr>
        <p:blipFill>
          <a:blip r:embed="rId2"/>
          <a:stretch/>
        </p:blipFill>
        <p:spPr>
          <a:xfrm>
            <a:off x="6858000" y="0"/>
            <a:ext cx="2293920" cy="6858000"/>
          </a:xfrm>
          <a:prstGeom prst="rect">
            <a:avLst/>
          </a:prstGeom>
          <a:ln w="0">
            <a:noFill/>
          </a:ln>
        </p:spPr>
      </p:pic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 type="dt" idx="25"/>
          </p:nvPr>
        </p:nvSpPr>
        <p:spPr>
          <a:xfrm>
            <a:off x="83952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 type="sldNum" idx="26"/>
          </p:nvPr>
        </p:nvSpPr>
        <p:spPr>
          <a:xfrm>
            <a:off x="4116240" y="6352920"/>
            <a:ext cx="53208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9AD042D2-1A43-494F-870A-1858A63BAB65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2" name=""/>
          <p:cNvSpPr/>
          <p:nvPr/>
        </p:nvSpPr>
        <p:spPr>
          <a:xfrm>
            <a:off x="83808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0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1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2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3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4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5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6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7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8" name=""/>
          <p:cNvSpPr/>
          <p:nvPr/>
        </p:nvSpPr>
        <p:spPr>
          <a:xfrm>
            <a:off x="911376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9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0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1" name="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2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3" name="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4" name="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 type="dt" idx="27"/>
          </p:nvPr>
        </p:nvSpPr>
        <p:spPr>
          <a:xfrm>
            <a:off x="9097920" y="222120"/>
            <a:ext cx="228456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8" name=""/>
          <p:cNvSpPr/>
          <p:nvPr/>
        </p:nvSpPr>
        <p:spPr>
          <a:xfrm rot="5400000">
            <a:off x="7078680" y="418140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sldNum" idx="28"/>
          </p:nvPr>
        </p:nvSpPr>
        <p:spPr>
          <a:xfrm>
            <a:off x="13251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2100B5F2-D6D5-44AD-9C13-73412CDA36C6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7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8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19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0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1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29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sldNum" idx="30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1E145198-1555-4ACE-9C0C-125AF41717C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4" name="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5" name="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6" name="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7" name=""/>
          <p:cNvSpPr/>
          <p:nvPr/>
        </p:nvSpPr>
        <p:spPr>
          <a:xfrm>
            <a:off x="10620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8" name=""/>
          <p:cNvSpPr/>
          <p:nvPr/>
        </p:nvSpPr>
        <p:spPr>
          <a:xfrm>
            <a:off x="914400" y="0"/>
            <a:ext cx="1440" cy="6858000"/>
          </a:xfrm>
          <a:prstGeom prst="line">
            <a:avLst/>
          </a:prstGeom>
          <a:ln w="57240">
            <a:solidFill>
              <a:srgbClr val="ffed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69" name=""/>
          <p:cNvSpPr/>
          <p:nvPr/>
        </p:nvSpPr>
        <p:spPr>
          <a:xfrm>
            <a:off x="853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0" name=""/>
          <p:cNvSpPr/>
          <p:nvPr/>
        </p:nvSpPr>
        <p:spPr>
          <a:xfrm>
            <a:off x="1727280" y="0"/>
            <a:ext cx="1440" cy="6858000"/>
          </a:xfrm>
          <a:prstGeom prst="line">
            <a:avLst/>
          </a:prstGeom>
          <a:ln w="284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1" name=""/>
          <p:cNvSpPr/>
          <p:nvPr/>
        </p:nvSpPr>
        <p:spPr>
          <a:xfrm>
            <a:off x="1066680" y="0"/>
            <a:ext cx="180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2" name="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3" name="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4" name="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5" name="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6" name="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7" name="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8" name=""/>
          <p:cNvSpPr/>
          <p:nvPr/>
        </p:nvSpPr>
        <p:spPr>
          <a:xfrm>
            <a:off x="9097920" y="0"/>
            <a:ext cx="180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7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80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81" name="PlaceHolder 3"/>
          <p:cNvSpPr>
            <a:spLocks noGrp="1"/>
          </p:cNvSpPr>
          <p:nvPr>
            <p:ph type="dt" idx="31"/>
          </p:nvPr>
        </p:nvSpPr>
        <p:spPr>
          <a:xfrm>
            <a:off x="9096120" y="217440"/>
            <a:ext cx="2284200" cy="37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2" name=""/>
          <p:cNvSpPr/>
          <p:nvPr/>
        </p:nvSpPr>
        <p:spPr>
          <a:xfrm rot="5400000">
            <a:off x="7078680" y="4178160"/>
            <a:ext cx="3657600" cy="38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 type="sldNum" idx="32"/>
          </p:nvPr>
        </p:nvSpPr>
        <p:spPr>
          <a:xfrm>
            <a:off x="1339560" y="4928760"/>
            <a:ext cx="608040" cy="51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DCF24E72-28F2-4F2C-876E-B5F9C607BEEC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 type="dt" idx="33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29" name="PlaceHolder 4"/>
          <p:cNvSpPr>
            <a:spLocks noGrp="1"/>
          </p:cNvSpPr>
          <p:nvPr>
            <p:ph type="sldNum" idx="34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F12FDB94-30F5-4F42-92E3-93A3CA24B018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3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8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9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0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1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2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3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 type="dt" idx="35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 type="sldNum" idx="36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C78BABA8-939C-475C-BD0D-77FFD0F0D1E2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78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6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7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8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19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0" name=""/>
          <p:cNvSpPr/>
          <p:nvPr/>
        </p:nvSpPr>
        <p:spPr>
          <a:xfrm>
            <a:off x="62485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1" name=""/>
          <p:cNvSpPr/>
          <p:nvPr/>
        </p:nvSpPr>
        <p:spPr>
          <a:xfrm>
            <a:off x="6192720" y="0"/>
            <a:ext cx="180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24" name="PlaceHolder 3"/>
          <p:cNvSpPr>
            <a:spLocks noGrp="1"/>
          </p:cNvSpPr>
          <p:nvPr>
            <p:ph type="dt" idx="37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5" name="PlaceHolder 4"/>
          <p:cNvSpPr>
            <a:spLocks noGrp="1"/>
          </p:cNvSpPr>
          <p:nvPr>
            <p:ph type="sldNum" idx="38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36647A2-C712-4C27-A52A-6011FE29EED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6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3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sldNum" idx="4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B28A874F-CBE5-44B8-BDDF-F5420CD28B2F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E2230A1B-A9F9-4B7B-A02B-C7317C2BD274}" type="slidenum">
              <a:rPr b="0" lang="ru-RU" sz="12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6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sldNum" idx="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21501D52-5631-4932-BB3E-B12EBCC937F1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8823240" y="0"/>
            <a:ext cx="320760" cy="685800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876560" y="456840"/>
            <a:ext cx="281772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457200" y="456840"/>
            <a:ext cx="3656160" cy="571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marL="343080" indent="0">
              <a:spcBef>
                <a:spcPts val="4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45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 type="sldNum" idx="9"/>
          </p:nvPr>
        </p:nvSpPr>
        <p:spPr>
          <a:xfrm>
            <a:off x="7772040" y="6352920"/>
            <a:ext cx="531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B3D99702-DC5F-4BD9-ACE2-082AB27D6FEB}" type="slidenum"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 type="dt" idx="10"/>
          </p:nvPr>
        </p:nvSpPr>
        <p:spPr>
          <a:xfrm>
            <a:off x="4876560" y="6365520"/>
            <a:ext cx="28177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000" spc="-1" strike="noStrike">
                <a:solidFill>
                  <a:srgbClr val="7f7f7f"/>
                </a:solidFill>
                <a:latin typeface="Calibri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"/>
          <p:cNvSpPr/>
          <p:nvPr/>
        </p:nvSpPr>
        <p:spPr>
          <a:xfrm>
            <a:off x="4875120" y="6202440"/>
            <a:ext cx="2820960" cy="24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8763120" y="0"/>
            <a:ext cx="144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74660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466040" cy="487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1"/>
          </p:nvPr>
        </p:nvSpPr>
        <p:spPr>
          <a:xfrm>
            <a:off x="8786520" y="267840"/>
            <a:ext cx="2009880" cy="38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0" name=""/>
          <p:cNvSpPr/>
          <p:nvPr/>
        </p:nvSpPr>
        <p:spPr>
          <a:xfrm rot="5400000">
            <a:off x="6990840" y="3736800"/>
            <a:ext cx="32004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1" name=""/>
          <p:cNvSpPr/>
          <p:nvPr/>
        </p:nvSpPr>
        <p:spPr>
          <a:xfrm>
            <a:off x="76320" y="0"/>
            <a:ext cx="144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"/>
          <p:cNvSpPr/>
          <p:nvPr/>
        </p:nvSpPr>
        <p:spPr>
          <a:xfrm>
            <a:off x="8991720" y="0"/>
            <a:ext cx="144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3" name="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4" name=""/>
          <p:cNvSpPr/>
          <p:nvPr/>
        </p:nvSpPr>
        <p:spPr>
          <a:xfrm>
            <a:off x="8915400" y="0"/>
            <a:ext cx="144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5" name="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sldNum" idx="12"/>
          </p:nvPr>
        </p:nvSpPr>
        <p:spPr>
          <a:xfrm>
            <a:off x="8129160" y="5734080"/>
            <a:ext cx="608040" cy="51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44F7738A-5A01-41D6-B276-F26F15A16314}" type="slidenum">
              <a:rPr b="1" lang="ru-RU" sz="1400" spc="-1" strike="noStrike">
                <a:solidFill>
                  <a:srgbClr val="ffffff"/>
                </a:solidFill>
                <a:latin typeface="Century Schoolbook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 flipV="1" rot="420000">
            <a:off x="316404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4" name=""/>
          <p:cNvSpPr/>
          <p:nvPr/>
        </p:nvSpPr>
        <p:spPr>
          <a:xfrm flipV="1" rot="420000">
            <a:off x="8002080" y="5358960"/>
            <a:ext cx="15588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5" name=""/>
          <p:cNvSpPr/>
          <p:nvPr/>
        </p:nvSpPr>
        <p:spPr>
          <a:xfrm flipV="1">
            <a:off x="-9000" y="581400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"/>
          <p:cNvSpPr/>
          <p:nvPr/>
        </p:nvSpPr>
        <p:spPr>
          <a:xfrm flipV="1">
            <a:off x="4381560" y="621756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-484200"/>
            <a:ext cx="8228160" cy="23306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8160" cy="438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7200" y="6356160"/>
            <a:ext cx="213192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0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 type="sldNum" idx="14"/>
          </p:nvPr>
        </p:nvSpPr>
        <p:spPr>
          <a:xfrm>
            <a:off x="8076960" y="6356160"/>
            <a:ext cx="608040" cy="36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7D86501B-0AD4-4610-AE1C-DF1C3A7DCD29}" type="slidenum">
              <a:rPr b="0" lang="ru-RU" sz="1200" spc="-1" strike="noStrike">
                <a:solidFill>
                  <a:srgbClr val="045c75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174600"/>
            <a:ext cx="8228160" cy="134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8160" cy="470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 type="dt" idx="15"/>
          </p:nvPr>
        </p:nvSpPr>
        <p:spPr>
          <a:xfrm>
            <a:off x="457200" y="6416640"/>
            <a:ext cx="213192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1" name=""/>
          <p:cNvSpPr/>
          <p:nvPr/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sldNum" idx="16"/>
          </p:nvPr>
        </p:nvSpPr>
        <p:spPr>
          <a:xfrm>
            <a:off x="7924320" y="6416640"/>
            <a:ext cx="760680" cy="363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A7015EA2-F2F0-4A0A-8FA8-1BC94AB7EB30}" type="slidenum">
              <a:rPr b="0" lang="ru-RU" sz="1200" spc="-1" strike="noStrike">
                <a:solidFill>
                  <a:srgbClr val="bcbcbc"/>
                </a:solidFill>
                <a:latin typeface="Times New Roman"/>
                <a:ea typeface="Lucida Sans Unicod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83838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9" name="" descr=""/>
          <p:cNvPicPr/>
          <p:nvPr/>
        </p:nvPicPr>
        <p:blipFill>
          <a:blip r:embed="rId2"/>
          <a:srcRect l="0" t="33333" r="0" b="0"/>
          <a:stretch/>
        </p:blipFill>
        <p:spPr>
          <a:xfrm>
            <a:off x="0" y="0"/>
            <a:ext cx="9144000" cy="4572000"/>
          </a:xfrm>
          <a:prstGeom prst="rect">
            <a:avLst/>
          </a:prstGeom>
          <a:ln w="0">
            <a:noFill/>
          </a:ln>
        </p:spPr>
      </p:pic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09120" y="274680"/>
            <a:ext cx="792324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Narrow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609120" y="1600200"/>
            <a:ext cx="792324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25"/>
              </a:spcBef>
              <a:spcAft>
                <a:spcPts val="60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Click to edit the outline text format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1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con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2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Third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3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our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4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Fif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5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ix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  <a:p>
            <a:pPr lvl="6" marL="343080" indent="-343080">
              <a:spcBef>
                <a:spcPts val="425"/>
              </a:spcBef>
              <a:spcAft>
                <a:spcPts val="60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 Narrow"/>
              </a:rPr>
              <a:t>Seventh Outline Level</a:t>
            </a:r>
            <a:endParaRPr b="0" lang="en-US" sz="1700" spc="-1" strike="noStrike">
              <a:solidFill>
                <a:srgbClr val="ffffff"/>
              </a:solidFill>
              <a:latin typeface="Arial Narrow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 type="dt" idx="17"/>
          </p:nvPr>
        </p:nvSpPr>
        <p:spPr>
          <a:xfrm>
            <a:off x="5714640" y="6356160"/>
            <a:ext cx="152244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3" name=""/>
          <p:cNvSpPr/>
          <p:nvPr/>
        </p:nvSpPr>
        <p:spPr>
          <a:xfrm>
            <a:off x="6094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 type="sldNum" idx="18"/>
          </p:nvPr>
        </p:nvSpPr>
        <p:spPr>
          <a:xfrm>
            <a:off x="7543440" y="6356160"/>
            <a:ext cx="988920" cy="36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7289D775-F26F-4223-BCC0-0AC49EAAC3A0}" type="slidenum">
              <a:rPr b="0" lang="ru-RU" sz="11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6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69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69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5.png"/><Relationship Id="rId2" Type="http://schemas.openxmlformats.org/officeDocument/2006/relationships/image" Target="../media/image46.png"/><Relationship Id="rId3" Type="http://schemas.openxmlformats.org/officeDocument/2006/relationships/slideLayout" Target="../slideLayouts/slideLayout37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image" Target="../media/image48.png"/><Relationship Id="rId3" Type="http://schemas.openxmlformats.org/officeDocument/2006/relationships/image" Target="../media/image49.png"/><Relationship Id="rId4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52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Layout" Target="../slideLayouts/slideLayout49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png"/><Relationship Id="rId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6.png"/><Relationship Id="rId3" Type="http://schemas.openxmlformats.org/officeDocument/2006/relationships/image" Target="../media/image57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1" name=""/>
          <p:cNvGrpSpPr/>
          <p:nvPr/>
        </p:nvGrpSpPr>
        <p:grpSpPr>
          <a:xfrm>
            <a:off x="0" y="244440"/>
            <a:ext cx="9175680" cy="2455920"/>
            <a:chOff x="0" y="244440"/>
            <a:chExt cx="9175680" cy="2455920"/>
          </a:xfrm>
        </p:grpSpPr>
        <p:pic>
          <p:nvPicPr>
            <p:cNvPr id="872" name="" descr=""/>
            <p:cNvPicPr/>
            <p:nvPr/>
          </p:nvPicPr>
          <p:blipFill>
            <a:blip r:embed="rId2"/>
            <a:stretch/>
          </p:blipFill>
          <p:spPr>
            <a:xfrm>
              <a:off x="0" y="244440"/>
              <a:ext cx="9175680" cy="245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3" name=""/>
            <p:cNvSpPr/>
            <p:nvPr/>
          </p:nvSpPr>
          <p:spPr>
            <a:xfrm>
              <a:off x="0" y="244440"/>
              <a:ext cx="9175680" cy="245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74" name=""/>
          <p:cNvSpPr/>
          <p:nvPr/>
        </p:nvSpPr>
        <p:spPr>
          <a:xfrm>
            <a:off x="1440000" y="2185920"/>
            <a:ext cx="6400800" cy="42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836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равильные многогранники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(Тела Платон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олуправильные многогранники (Архимедовы тела)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Докладчики: ст. гр. 019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 </a:t>
            </a: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Паршиков В. А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i="1" lang="ru-RU" sz="2600" spc="-1" strike="noStrike">
                <a:solidFill>
                  <a:srgbClr val="0d0d0d"/>
                </a:solidFill>
                <a:latin typeface="Constantia"/>
                <a:ea typeface="Lucida Sans Unicode"/>
              </a:rPr>
              <a:t>Маслова Н. В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"/>
          <p:cNvSpPr/>
          <p:nvPr/>
        </p:nvSpPr>
        <p:spPr>
          <a:xfrm>
            <a:off x="533520" y="115920"/>
            <a:ext cx="8229600" cy="338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Именно икосаэдр оказался в центре внимания биологов в их спорах относительно формы  вирусов.  Вирус  не  может  быть  совершенно круглым, как считалось ранее. Чтобы установить его  форму,  брали  различные многогранники, направляли на них свет  под  теми  же  углами,  что  и  поток атомов на вирус. Оказалось, что только один многогранник  дает точно  такую же тень - икосаэдр. Его геометрические свойства, о которых говорилось  выше, позволяют экономить  генетическую  информацию.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9" name="" descr=""/>
          <p:cNvPicPr/>
          <p:nvPr/>
        </p:nvPicPr>
        <p:blipFill>
          <a:blip r:embed="rId2"/>
          <a:stretch/>
        </p:blipFill>
        <p:spPr>
          <a:xfrm>
            <a:off x="2484360" y="3500280"/>
            <a:ext cx="4327560" cy="318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dur="indefinite" fill="hold">
                      <p:stCondLst>
                        <p:cond delay="indefinite"/>
                      </p:stCondLst>
                      <p:childTnLst>
                        <p:par>
                          <p:cTn id="6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65" dur="indefinite" nodeType="clickEffect" fill="hold" presetClass="entr" presetID="42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dur="indefinite" fill="hold">
                      <p:stCondLst>
                        <p:cond delay="indefinite"/>
                      </p:stCondLst>
                      <p:childTnLst>
                        <p:par>
                          <p:cTn id="7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 fill="hold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Arial"/>
                <a:ea typeface="Lucida Sans Unicode"/>
              </a:rPr>
              <a:t>Куб передает форму кристаллов поваренной соли NaCl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1" name="" descr=""/>
          <p:cNvPicPr/>
          <p:nvPr/>
        </p:nvPicPr>
        <p:blipFill>
          <a:blip r:embed="rId2"/>
          <a:stretch/>
        </p:blipFill>
        <p:spPr>
          <a:xfrm>
            <a:off x="2419200" y="1989000"/>
            <a:ext cx="4305600" cy="40006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dur="indefinite" fill="hold">
                      <p:stCondLst>
                        <p:cond delay="indefinite"/>
                      </p:stCondLst>
                      <p:childTnLst>
                        <p:par>
                          <p:cTn id="7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9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dur="indefinite" fill="hold">
                      <p:stCondLst>
                        <p:cond delay="indefinite"/>
                      </p:stCondLst>
                      <p:childTnLst>
                        <p:par>
                          <p:cTn id="8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8" dur="500" fill="hold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Кристалл  сернистого колчедана FeS имеет форму  додек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3" name="" descr=""/>
          <p:cNvPicPr/>
          <p:nvPr/>
        </p:nvPicPr>
        <p:blipFill>
          <a:blip r:embed="rId2"/>
          <a:stretch/>
        </p:blipFill>
        <p:spPr>
          <a:xfrm>
            <a:off x="2700360" y="2060640"/>
            <a:ext cx="4236840" cy="3645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dur="indefinite" fill="hold">
                      <p:stCondLst>
                        <p:cond delay="indefinite"/>
                      </p:stCondLst>
                      <p:childTnLst>
                        <p:par>
                          <p:cTn id="9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dur="indefinite" fill="hold">
                      <p:stCondLst>
                        <p:cond delay="indefinite"/>
                      </p:stCondLst>
                      <p:childTnLst>
                        <p:par>
                          <p:cTn id="99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 fill="hold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"/>
          <p:cNvSpPr/>
          <p:nvPr/>
        </p:nvSpPr>
        <p:spPr>
          <a:xfrm>
            <a:off x="611280" y="549360"/>
            <a:ext cx="8229600" cy="1439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Бор  -  икосаэдра</a:t>
            </a:r>
            <a:endParaRPr b="0" lang="en-US" sz="3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15" name="" descr=""/>
          <p:cNvPicPr/>
          <p:nvPr/>
        </p:nvPicPr>
        <p:blipFill>
          <a:blip r:embed="rId2"/>
          <a:stretch/>
        </p:blipFill>
        <p:spPr>
          <a:xfrm>
            <a:off x="2190600" y="1852560"/>
            <a:ext cx="4762800" cy="31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dur="indefinite" fill="hold">
                      <p:stCondLst>
                        <p:cond delay="indefinite"/>
                      </p:stCondLst>
                      <p:childTnLst>
                        <p:par>
                          <p:cTn id="106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0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9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dur="indefinite" fill="hold">
                      <p:stCondLst>
                        <p:cond delay="indefinite"/>
                      </p:stCondLst>
                      <p:childTnLst>
                        <p:par>
                          <p:cTn id="113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14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6" dur="500" fill="hold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6" name="" descr=""/>
          <p:cNvPicPr/>
          <p:nvPr/>
        </p:nvPicPr>
        <p:blipFill>
          <a:blip r:embed="rId1"/>
          <a:stretch/>
        </p:blipFill>
        <p:spPr>
          <a:xfrm>
            <a:off x="1503360" y="907920"/>
            <a:ext cx="6408720" cy="52977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dur="indefinite" fill="hold">
                      <p:stCondLst>
                        <p:cond delay="indefinite"/>
                      </p:stCondLst>
                      <p:childTnLst>
                        <p:par>
                          <p:cTn id="12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 fill="hold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"/>
          <p:cNvSpPr/>
          <p:nvPr/>
        </p:nvSpPr>
        <p:spPr>
          <a:xfrm>
            <a:off x="539640" y="1341360"/>
            <a:ext cx="8229600" cy="266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Эйлером была выведена формула, связывающая число вершин (В), граней (Г) и рёбер (Р) любого выпуклого многогранника простым соотношением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+Г=Р+2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push dir="u"/>
  </p:transition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dur="indefinite" fill="hold">
                      <p:stCondLst>
                        <p:cond delay="indefinite"/>
                      </p:stCondLst>
                      <p:childTnLst>
                        <p:par>
                          <p:cTn id="12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2" dur="500" fill="hold"/>
                                        <p:tgtEl>
                                          <p:spTgt spid="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dur="indefinite" fill="hold">
                      <p:stCondLst>
                        <p:cond delay="indefinite"/>
                      </p:stCondLst>
                      <p:childTnLst>
                        <p:par>
                          <p:cTn id="13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 fill="hold"/>
                                        <p:tgtEl>
                                          <p:spTgt spid="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8" name=""/>
          <p:cNvGrpSpPr/>
          <p:nvPr/>
        </p:nvGrpSpPr>
        <p:grpSpPr>
          <a:xfrm>
            <a:off x="969840" y="334800"/>
            <a:ext cx="7759800" cy="1652760"/>
            <a:chOff x="969840" y="334800"/>
            <a:chExt cx="7759800" cy="1652760"/>
          </a:xfrm>
        </p:grpSpPr>
        <p:pic>
          <p:nvPicPr>
            <p:cNvPr id="919" name="" descr=""/>
            <p:cNvPicPr/>
            <p:nvPr/>
          </p:nvPicPr>
          <p:blipFill>
            <a:blip r:embed="rId2"/>
            <a:stretch/>
          </p:blipFill>
          <p:spPr>
            <a:xfrm>
              <a:off x="969840" y="334800"/>
              <a:ext cx="7759800" cy="165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0" name=""/>
            <p:cNvSpPr/>
            <p:nvPr/>
          </p:nvSpPr>
          <p:spPr>
            <a:xfrm>
              <a:off x="969840" y="334800"/>
              <a:ext cx="7759800" cy="1652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21" name=""/>
          <p:cNvGraphicFramePr/>
          <p:nvPr/>
        </p:nvGraphicFramePr>
        <p:xfrm>
          <a:off x="324000" y="1773360"/>
          <a:ext cx="8507160" cy="3814560"/>
        </p:xfrm>
        <a:graphic>
          <a:graphicData uri="http://schemas.openxmlformats.org/drawingml/2006/table">
            <a:tbl>
              <a:tblPr/>
              <a:tblGrid>
                <a:gridCol w="2127240"/>
                <a:gridCol w="2125440"/>
                <a:gridCol w="2127240"/>
                <a:gridCol w="2127240"/>
              </a:tblGrid>
              <a:tr h="671400"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	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832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Октаэдр (куб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92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2856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"/>
          <p:cNvSpPr/>
          <p:nvPr/>
        </p:nvSpPr>
        <p:spPr>
          <a:xfrm>
            <a:off x="250920" y="1125360"/>
            <a:ext cx="85690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олуправильные многогранники или архимедовы тела — выпуклые многогранники, обладающие двумя свойствами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грани являются правильными многоугольниками двух или более типов;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Для любой пары вершин существует симметрия многогранника (то есть движение переводящее многогранник в себя) переводящая одну вершину в другую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ГЕКСАЭДР (КУБ)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4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5" name="" descr=""/>
          <p:cNvPicPr/>
          <p:nvPr/>
        </p:nvPicPr>
        <p:blipFill>
          <a:blip r:embed="rId1"/>
          <a:stretch/>
        </p:blipFill>
        <p:spPr>
          <a:xfrm>
            <a:off x="2178000" y="1771560"/>
            <a:ext cx="4511880" cy="44830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6" dur="2000" fill="hold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ТЕТР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7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28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535640" cy="450828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3" dur="2000" fill="hold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"/>
          <p:cNvSpPr/>
          <p:nvPr/>
        </p:nvSpPr>
        <p:spPr>
          <a:xfrm>
            <a:off x="395280" y="90792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равильный многогранник, или Платоново тело — это выпуклый многогранник с максимально возможной симметрией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Многогранник называется правильным, если: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Он выпуклый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се его грани являются равными правильными многоугольниками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SzPct val="65000"/>
              <a:buFont typeface="Times New Roman"/>
              <a:buAutoNum type="arabicPeriod"/>
              <a:tabLst>
                <a:tab algn="l" pos="365040"/>
                <a:tab algn="l" pos="1279440"/>
                <a:tab algn="l" pos="2193840"/>
                <a:tab algn="l" pos="3108240"/>
                <a:tab algn="l" pos="4022640"/>
                <a:tab algn="l" pos="4937040"/>
                <a:tab algn="l" pos="5851440"/>
                <a:tab algn="l" pos="6765840"/>
                <a:tab algn="l" pos="7680240"/>
                <a:tab algn="l" pos="8594640"/>
                <a:tab algn="l" pos="9509040"/>
                <a:tab algn="l" pos="9883800"/>
                <a:tab algn="l" pos="10333080"/>
                <a:tab algn="l" pos="1078236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В каждой его вершине сходится одинаковое число рёбер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ОКТ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0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1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60872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54" dur="indefinite" restart="never" nodeType="tmRoot">
          <p:childTnLst>
            <p:seq>
              <p:cTn id="155" dur="indefinite" nodeType="mainSeq">
                <p:childTnLst>
                  <p:par>
                    <p:cTn id="1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0" dur="2000" fill="hold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ДОДЕК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3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4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392720" cy="4419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7" dur="2000" fill="hold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39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"/>
          <p:cNvSpPr/>
          <p:nvPr/>
        </p:nvSpPr>
        <p:spPr>
          <a:xfrm>
            <a:off x="457200" y="274680"/>
            <a:ext cx="74674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575f6d"/>
                </a:solidFill>
                <a:latin typeface="Century Schoolbook"/>
                <a:ea typeface="Lucida Sans Unicode"/>
              </a:rPr>
              <a:t>УСЕЧЕННЫЙ ИКОСАЭДР</a:t>
            </a:r>
            <a:endParaRPr b="0" lang="en-US" sz="30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6" name=""/>
          <p:cNvSpPr/>
          <p:nvPr/>
        </p:nvSpPr>
        <p:spPr>
          <a:xfrm>
            <a:off x="45720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37" name="" descr=""/>
          <p:cNvPicPr/>
          <p:nvPr/>
        </p:nvPicPr>
        <p:blipFill>
          <a:blip r:embed="rId1"/>
          <a:stretch/>
        </p:blipFill>
        <p:spPr>
          <a:xfrm>
            <a:off x="2124000" y="1773360"/>
            <a:ext cx="4410000" cy="44640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dur="indefinite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74" dur="2000" fill="hold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"/>
          <p:cNvSpPr/>
          <p:nvPr/>
        </p:nvSpPr>
        <p:spPr>
          <a:xfrm>
            <a:off x="484200" y="590400"/>
            <a:ext cx="8229600" cy="102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6b8d"/>
                </a:solidFill>
                <a:latin typeface="Calibri"/>
                <a:ea typeface="Lucida Sans Unicode"/>
              </a:rPr>
              <a:t>Конструирование Архимедова усеченного икосаэдра из Платонова икосаэдра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9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0" name="" descr=""/>
          <p:cNvPicPr/>
          <p:nvPr/>
        </p:nvPicPr>
        <p:blipFill>
          <a:blip r:embed="rId2"/>
          <a:stretch/>
        </p:blipFill>
        <p:spPr>
          <a:xfrm>
            <a:off x="395280" y="2205000"/>
            <a:ext cx="8318520" cy="2592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7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1" dur="500" fill="hold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c4fa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"/>
          <p:cNvSpPr/>
          <p:nvPr/>
        </p:nvSpPr>
        <p:spPr>
          <a:xfrm>
            <a:off x="457200" y="279360"/>
            <a:ext cx="822960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КВАЗИПРАВИЛЬНЫЕ МНОГОГРАННИК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 Narrow"/>
                <a:ea typeface="Lucida Sans Unicode"/>
              </a:rPr>
              <a:t>ЧАСТИЦА «КВАЗИ» ПОДЧЕРКИВАЕТ, ЧТО ГРАНИ ЭТИХ МНОГОГРАННИКОВ ПРЕДСТАВЛЯЮТ СОБОЙ ПРАВИЛЬНЫЕ МНОГОУГОЛЬНИКИ ВСЕГО ДВУХ ТИПОВ, ПРИЧЕМ КАЖДАЯ ГРАНЬ ОДНОГО ТИПА ОКРУЖЕНА МНОГОУГОЛЬНИКАМИ ДРУГОГО ТИПА. ЭТИ ДВА ТЕЛА НОСЯТ НАЗВАНИЕ                  РОМБОКУБООКТАЭДРОМ                      И                        ИКОСОДОДЕКАЭДРОМ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2" name=""/>
          <p:cNvSpPr/>
          <p:nvPr/>
        </p:nvSpPr>
        <p:spPr>
          <a:xfrm>
            <a:off x="457200" y="2781360"/>
            <a:ext cx="8229600" cy="369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3" name="" descr=""/>
          <p:cNvPicPr/>
          <p:nvPr/>
        </p:nvPicPr>
        <p:blipFill>
          <a:blip r:embed="rId1"/>
          <a:stretch/>
        </p:blipFill>
        <p:spPr>
          <a:xfrm>
            <a:off x="468360" y="271944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944" name="" descr=""/>
          <p:cNvPicPr/>
          <p:nvPr/>
        </p:nvPicPr>
        <p:blipFill>
          <a:blip r:embed="rId2"/>
          <a:stretch/>
        </p:blipFill>
        <p:spPr>
          <a:xfrm>
            <a:off x="4932360" y="2700360"/>
            <a:ext cx="3781440" cy="378144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8200"/>
            </a:gs>
            <a:gs pos="100000">
              <a:srgbClr val="00008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5" name=""/>
          <p:cNvGrpSpPr/>
          <p:nvPr/>
        </p:nvGrpSpPr>
        <p:grpSpPr>
          <a:xfrm>
            <a:off x="450720" y="274680"/>
            <a:ext cx="8315280" cy="1146240"/>
            <a:chOff x="450720" y="274680"/>
            <a:chExt cx="8315280" cy="1146240"/>
          </a:xfrm>
        </p:grpSpPr>
        <p:pic>
          <p:nvPicPr>
            <p:cNvPr id="946" name="" descr=""/>
            <p:cNvPicPr/>
            <p:nvPr/>
          </p:nvPicPr>
          <p:blipFill>
            <a:blip r:embed="rId1"/>
            <a:stretch/>
          </p:blipFill>
          <p:spPr>
            <a:xfrm>
              <a:off x="450720" y="274680"/>
              <a:ext cx="8315280" cy="114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7" name=""/>
            <p:cNvSpPr/>
            <p:nvPr/>
          </p:nvSpPr>
          <p:spPr>
            <a:xfrm>
              <a:off x="450720" y="274680"/>
              <a:ext cx="8315280" cy="11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4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49" name="" descr=""/>
          <p:cNvPicPr/>
          <p:nvPr/>
        </p:nvPicPr>
        <p:blipFill>
          <a:blip r:embed="rId2"/>
          <a:stretch/>
        </p:blipFill>
        <p:spPr>
          <a:xfrm>
            <a:off x="324000" y="1773360"/>
            <a:ext cx="4222440" cy="4195800"/>
          </a:xfrm>
          <a:prstGeom prst="rect">
            <a:avLst/>
          </a:prstGeom>
          <a:ln w="0">
            <a:noFill/>
          </a:ln>
        </p:spPr>
      </p:pic>
      <p:pic>
        <p:nvPicPr>
          <p:cNvPr id="950" name="" descr=""/>
          <p:cNvPicPr/>
          <p:nvPr/>
        </p:nvPicPr>
        <p:blipFill>
          <a:blip r:embed="rId3"/>
          <a:stretch/>
        </p:blipFill>
        <p:spPr>
          <a:xfrm>
            <a:off x="4546440" y="1773360"/>
            <a:ext cx="4183200" cy="4195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"/>
          <p:cNvSpPr/>
          <p:nvPr/>
        </p:nvSpPr>
        <p:spPr>
          <a:xfrm>
            <a:off x="431640" y="115920"/>
            <a:ext cx="8229600" cy="174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   </a:t>
            </a: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Существуют две так называемые «курносые» модификации – одна для куба (курносый куб), </a:t>
            </a:r>
            <a:br>
              <a:rPr sz="2800"/>
            </a:br>
            <a:r>
              <a:rPr b="0" lang="ru-RU" sz="2800" spc="-1" strike="noStrike">
                <a:solidFill>
                  <a:srgbClr val="04617b"/>
                </a:solidFill>
                <a:latin typeface="Calibri"/>
                <a:ea typeface="Lucida Sans Unicode"/>
              </a:rPr>
              <a:t>другая – для додекаэдра (курносый додекаэдр)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2" name=""/>
          <p:cNvSpPr/>
          <p:nvPr/>
        </p:nvSpPr>
        <p:spPr>
          <a:xfrm>
            <a:off x="457200" y="2565360"/>
            <a:ext cx="8229600" cy="39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53" name="" descr=""/>
          <p:cNvPicPr/>
          <p:nvPr/>
        </p:nvPicPr>
        <p:blipFill>
          <a:blip r:embed="rId1"/>
          <a:stretch/>
        </p:blipFill>
        <p:spPr>
          <a:xfrm>
            <a:off x="539640" y="2276640"/>
            <a:ext cx="4006800" cy="4006800"/>
          </a:xfrm>
          <a:prstGeom prst="rect">
            <a:avLst/>
          </a:prstGeom>
          <a:ln w="0">
            <a:noFill/>
          </a:ln>
        </p:spPr>
      </p:pic>
      <p:pic>
        <p:nvPicPr>
          <p:cNvPr id="954" name="" descr=""/>
          <p:cNvPicPr/>
          <p:nvPr/>
        </p:nvPicPr>
        <p:blipFill>
          <a:blip r:embed="rId2"/>
          <a:stretch/>
        </p:blipFill>
        <p:spPr>
          <a:xfrm>
            <a:off x="4546440" y="2276640"/>
            <a:ext cx="4007160" cy="4006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5" name=""/>
          <p:cNvGrpSpPr/>
          <p:nvPr/>
        </p:nvGrpSpPr>
        <p:grpSpPr>
          <a:xfrm>
            <a:off x="682560" y="-208080"/>
            <a:ext cx="7759800" cy="1549440"/>
            <a:chOff x="682560" y="-208080"/>
            <a:chExt cx="7759800" cy="1549440"/>
          </a:xfrm>
        </p:grpSpPr>
        <p:pic>
          <p:nvPicPr>
            <p:cNvPr id="956" name="" descr=""/>
            <p:cNvPicPr/>
            <p:nvPr/>
          </p:nvPicPr>
          <p:blipFill>
            <a:blip r:embed="rId2"/>
            <a:stretch/>
          </p:blipFill>
          <p:spPr>
            <a:xfrm>
              <a:off x="682560" y="-208080"/>
              <a:ext cx="7759800" cy="1549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7" name=""/>
            <p:cNvSpPr/>
            <p:nvPr/>
          </p:nvSpPr>
          <p:spPr>
            <a:xfrm>
              <a:off x="682560" y="-208080"/>
              <a:ext cx="7759800" cy="15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aphicFrame>
        <p:nvGraphicFramePr>
          <p:cNvPr id="958" name=""/>
          <p:cNvGraphicFramePr/>
          <p:nvPr/>
        </p:nvGraphicFramePr>
        <p:xfrm>
          <a:off x="468360" y="765000"/>
          <a:ext cx="8066160" cy="6216480"/>
        </p:xfrm>
        <a:graphic>
          <a:graphicData uri="http://schemas.openxmlformats.org/drawingml/2006/table">
            <a:tbl>
              <a:tblPr/>
              <a:tblGrid>
                <a:gridCol w="3506760"/>
                <a:gridCol w="1530360"/>
                <a:gridCol w="1467000"/>
                <a:gridCol w="1562040"/>
              </a:tblGrid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НАЗВА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ГРАН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РЁБР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1" lang="ru-RU" sz="1800" spc="-1" strike="noStrike">
                          <a:solidFill>
                            <a:srgbClr val="ffffff"/>
                          </a:solidFill>
                          <a:latin typeface="Constantia"/>
                        </a:rPr>
                        <a:t>ВЕРШИНЫ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9360">
                      <a:solidFill>
                        <a:srgbClr val="ffffff"/>
                      </a:solidFill>
                    </a:lnB>
                    <a:solidFill>
                      <a:srgbClr val="0f6fc6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. Усеченный тетр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936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. Усеченный 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. Усеченный гек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72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. Усеченный икос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5. Усеченн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.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.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8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8. Ромбо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3360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63504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0. Ромбоусеченный кубоокт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7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1. Ромбоусеченный икосо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8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  <a:tr h="3664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2. Курносый куб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3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2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e7ebf5"/>
                    </a:solidFill>
                  </a:tcPr>
                </a:tc>
              </a:tr>
              <a:tr h="640080"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3.Курносый додекаэдр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9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1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  <a:tc>
                  <a:txBody>
                    <a:bodyPr tIns="57240" anchor="t">
                      <a:noAutofit/>
                    </a:bodyPr>
                    <a:p>
                      <a:pPr>
                        <a:lnSpc>
                          <a:spcPct val="9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  <a:tab algn="l" pos="10333080"/>
                          <a:tab algn="l" pos="1078236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Constanti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Constantia"/>
                      </a:endParaRPr>
                    </a:p>
                  </a:txBody>
                  <a:tcPr anchor="t" marL="91440" marR="91440">
                    <a:lnL w="2880">
                      <a:solidFill>
                        <a:srgbClr val="ffffff"/>
                      </a:solidFill>
                    </a:lnL>
                    <a:lnR w="2880">
                      <a:solidFill>
                        <a:srgbClr val="ffffff"/>
                      </a:solidFill>
                    </a:lnR>
                    <a:lnT w="2880">
                      <a:solidFill>
                        <a:srgbClr val="ffffff"/>
                      </a:solidFill>
                    </a:lnT>
                    <a:lnB w="2880">
                      <a:solidFill>
                        <a:srgbClr val="ffffff"/>
                      </a:solidFill>
                    </a:lnB>
                    <a:solidFill>
                      <a:srgbClr val="ccd5ea"/>
                    </a:solidFill>
                  </a:tcPr>
                </a:tc>
              </a:tr>
            </a:tbl>
          </a:graphicData>
        </a:graphic>
      </p:graphicFrame>
    </p:spTree>
  </p:cSld>
  <p:transition spd="med"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ffff1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57200" y="692280"/>
            <a:ext cx="8229600" cy="578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Кеплер первым начал изучать так называемые звездчатые многогранники, которые в отличие от Платоновых и Архимедовых тел являются правильными выпуклыми многогранниками. В начале прошлого столетия французский математик и механик Л. Пуансо (1777-1859),  в развитие работ Кеплера открыл существование еще двух видов правильных невыпуклых многогранников. Итак, благодаря работам Кеплера и Пуансо стали известными четыре типа таких фигур.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730080"/>
                <a:tab algn="l" pos="1644480"/>
                <a:tab algn="l" pos="2558880"/>
                <a:tab algn="l" pos="3473280"/>
                <a:tab algn="l" pos="4387680"/>
                <a:tab algn="l" pos="5302080"/>
                <a:tab algn="l" pos="6216480"/>
                <a:tab algn="l" pos="7130880"/>
                <a:tab algn="l" pos="8045280"/>
                <a:tab algn="l" pos="8959680"/>
                <a:tab algn="l" pos="9874080"/>
                <a:tab algn="l" pos="98838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 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  <a:ea typeface="Lucida Sans Unicode"/>
              </a:rPr>
              <a:t>В 1812 г. О. Коши доказал, что других правильных звездчатых многогранников не существует.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60" name="" descr=""/>
          <p:cNvPicPr/>
          <p:nvPr/>
        </p:nvPicPr>
        <p:blipFill>
          <a:blip r:embed="rId1"/>
          <a:stretch/>
        </p:blipFill>
        <p:spPr>
          <a:xfrm>
            <a:off x="2928960" y="2708280"/>
            <a:ext cx="2808360" cy="276372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81add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1" name="" descr=""/>
          <p:cNvPicPr/>
          <p:nvPr/>
        </p:nvPicPr>
        <p:blipFill>
          <a:blip r:embed="rId1"/>
          <a:stretch/>
        </p:blipFill>
        <p:spPr>
          <a:xfrm>
            <a:off x="1908000" y="1989000"/>
            <a:ext cx="4400640" cy="3810240"/>
          </a:xfrm>
          <a:prstGeom prst="rect">
            <a:avLst/>
          </a:prstGeom>
          <a:ln w="0">
            <a:noFill/>
          </a:ln>
        </p:spPr>
      </p:pic>
      <p:grpSp>
        <p:nvGrpSpPr>
          <p:cNvPr id="962" name=""/>
          <p:cNvGrpSpPr/>
          <p:nvPr/>
        </p:nvGrpSpPr>
        <p:grpSpPr>
          <a:xfrm>
            <a:off x="969840" y="457200"/>
            <a:ext cx="6729480" cy="957240"/>
            <a:chOff x="969840" y="457200"/>
            <a:chExt cx="6729480" cy="957240"/>
          </a:xfrm>
        </p:grpSpPr>
        <p:pic>
          <p:nvPicPr>
            <p:cNvPr id="963" name="" descr=""/>
            <p:cNvPicPr/>
            <p:nvPr/>
          </p:nvPicPr>
          <p:blipFill>
            <a:blip r:embed="rId2"/>
            <a:stretch/>
          </p:blipFill>
          <p:spPr>
            <a:xfrm>
              <a:off x="969840" y="457200"/>
              <a:ext cx="6729480" cy="957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4" name=""/>
            <p:cNvSpPr/>
            <p:nvPr/>
          </p:nvSpPr>
          <p:spPr>
            <a:xfrm>
              <a:off x="969840" y="457200"/>
              <a:ext cx="6729480" cy="95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  <p:transition spd="slow"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"/>
          <p:cNvSpPr/>
          <p:nvPr/>
        </p:nvSpPr>
        <p:spPr>
          <a:xfrm>
            <a:off x="468360" y="260280"/>
            <a:ext cx="8229600" cy="59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13644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Существуют только </a:t>
            </a:r>
            <a:r>
              <a:rPr b="1" i="1" lang="ru-RU" sz="36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пять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правильных многогранников. Подтвердить  это можно с помощью развертки выпуклого многогранного угла. В  самом  деле,  для того  чтобы  получить  какой-нибудь  правильный  многогранник  согласно  его определению,  в  каждой  вершине  должно  сходиться  одинаковое   количество граней,  каждая  из  которых  является  правильным  многоугольником.   Сумма плоских углов многогранного угла должна  быть  меньше  360˚,  иначе  никакой многогранной поверхности не получится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 spd="slow">
    <p:cover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5" name=""/>
          <p:cNvGrpSpPr/>
          <p:nvPr/>
        </p:nvGrpSpPr>
        <p:grpSpPr>
          <a:xfrm>
            <a:off x="396720" y="334800"/>
            <a:ext cx="8302680" cy="4108680"/>
            <a:chOff x="396720" y="334800"/>
            <a:chExt cx="8302680" cy="4108680"/>
          </a:xfrm>
        </p:grpSpPr>
        <p:pic>
          <p:nvPicPr>
            <p:cNvPr id="966" name="" descr=""/>
            <p:cNvPicPr/>
            <p:nvPr/>
          </p:nvPicPr>
          <p:blipFill>
            <a:blip r:embed="rId2"/>
            <a:stretch/>
          </p:blipFill>
          <p:spPr>
            <a:xfrm>
              <a:off x="396720" y="334800"/>
              <a:ext cx="8302680" cy="4108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7" name=""/>
            <p:cNvSpPr/>
            <p:nvPr/>
          </p:nvSpPr>
          <p:spPr>
            <a:xfrm>
              <a:off x="396720" y="334800"/>
              <a:ext cx="8302680" cy="410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grpSp>
        <p:nvGrpSpPr>
          <p:cNvPr id="968" name=""/>
          <p:cNvGrpSpPr/>
          <p:nvPr/>
        </p:nvGrpSpPr>
        <p:grpSpPr>
          <a:xfrm>
            <a:off x="6450120" y="3181320"/>
            <a:ext cx="779400" cy="757440"/>
            <a:chOff x="6450120" y="3181320"/>
            <a:chExt cx="779400" cy="757440"/>
          </a:xfrm>
        </p:grpSpPr>
        <p:pic>
          <p:nvPicPr>
            <p:cNvPr id="969" name="" descr=""/>
            <p:cNvPicPr/>
            <p:nvPr/>
          </p:nvPicPr>
          <p:blipFill>
            <a:blip r:embed="rId3"/>
            <a:stretch/>
          </p:blipFill>
          <p:spPr>
            <a:xfrm>
              <a:off x="6450120" y="3181320"/>
              <a:ext cx="779400" cy="757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70" name=""/>
            <p:cNvSpPr/>
            <p:nvPr/>
          </p:nvSpPr>
          <p:spPr>
            <a:xfrm>
              <a:off x="6610320" y="3303720"/>
              <a:ext cx="458640" cy="43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7" name=""/>
          <p:cNvGrpSpPr/>
          <p:nvPr/>
        </p:nvGrpSpPr>
        <p:grpSpPr>
          <a:xfrm>
            <a:off x="396720" y="109440"/>
            <a:ext cx="8472600" cy="1828800"/>
            <a:chOff x="396720" y="109440"/>
            <a:chExt cx="8472600" cy="1828800"/>
          </a:xfrm>
        </p:grpSpPr>
        <p:pic>
          <p:nvPicPr>
            <p:cNvPr id="878" name="" descr=""/>
            <p:cNvPicPr/>
            <p:nvPr/>
          </p:nvPicPr>
          <p:blipFill>
            <a:blip r:embed="rId2"/>
            <a:stretch/>
          </p:blipFill>
          <p:spPr>
            <a:xfrm>
              <a:off x="396720" y="109440"/>
              <a:ext cx="8472600" cy="182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79" name=""/>
            <p:cNvSpPr/>
            <p:nvPr/>
          </p:nvSpPr>
          <p:spPr>
            <a:xfrm>
              <a:off x="396720" y="109440"/>
              <a:ext cx="8472600" cy="1828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0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3636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401760"/>
                <a:tab algn="l" pos="1316160"/>
                <a:tab algn="l" pos="2230560"/>
                <a:tab algn="l" pos="3144960"/>
                <a:tab algn="l" pos="4059360"/>
                <a:tab algn="l" pos="4973760"/>
                <a:tab algn="l" pos="5888160"/>
                <a:tab algn="l" pos="6802560"/>
                <a:tab algn="l" pos="7716960"/>
                <a:tab algn="l" pos="8631360"/>
                <a:tab algn="l" pos="954576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1" name="" descr=""/>
          <p:cNvPicPr/>
          <p:nvPr/>
        </p:nvPicPr>
        <p:blipFill>
          <a:blip r:embed="rId3"/>
          <a:stretch/>
        </p:blipFill>
        <p:spPr>
          <a:xfrm>
            <a:off x="1258920" y="1773360"/>
            <a:ext cx="3316320" cy="2485800"/>
          </a:xfrm>
          <a:prstGeom prst="rect">
            <a:avLst/>
          </a:prstGeom>
          <a:ln w="0">
            <a:noFill/>
          </a:ln>
        </p:spPr>
      </p:pic>
      <p:pic>
        <p:nvPicPr>
          <p:cNvPr id="882" name="" descr=""/>
          <p:cNvPicPr/>
          <p:nvPr/>
        </p:nvPicPr>
        <p:blipFill>
          <a:blip r:embed="rId4"/>
          <a:stretch/>
        </p:blipFill>
        <p:spPr>
          <a:xfrm>
            <a:off x="5219640" y="3319560"/>
            <a:ext cx="2952720" cy="24764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" dur="500" fill="hold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7" dur="250" autoRev="1" fill="hold"/>
                                        <p:tgtEl>
                                          <p:spTgt spid="881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9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500" fill="hold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250" autoRev="1" fill="hold"/>
                                        <p:tgtEl>
                                          <p:spTgt spid="88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3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84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85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86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87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35320" cy="2427480"/>
          </a:xfrm>
          <a:prstGeom prst="rect">
            <a:avLst/>
          </a:prstGeom>
          <a:ln w="0">
            <a:noFill/>
          </a:ln>
        </p:spPr>
      </p:pic>
      <p:pic>
        <p:nvPicPr>
          <p:cNvPr id="888" name="" descr=""/>
          <p:cNvPicPr/>
          <p:nvPr/>
        </p:nvPicPr>
        <p:blipFill>
          <a:blip r:embed="rId4"/>
          <a:stretch/>
        </p:blipFill>
        <p:spPr>
          <a:xfrm>
            <a:off x="4932360" y="3414600"/>
            <a:ext cx="2730600" cy="25480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6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" dur="500" fill="hold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9" dur="250" autoRev="1" fill="hold"/>
                                        <p:tgtEl>
                                          <p:spTgt spid="887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1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3" dur="500" fill="hold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4" dur="250" autoRev="1" fill="hold"/>
                                        <p:tgtEl>
                                          <p:spTgt spid="88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9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0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1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2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3" name="" descr=""/>
          <p:cNvPicPr/>
          <p:nvPr/>
        </p:nvPicPr>
        <p:blipFill>
          <a:blip r:embed="rId3"/>
          <a:stretch/>
        </p:blipFill>
        <p:spPr>
          <a:xfrm>
            <a:off x="1187280" y="1673280"/>
            <a:ext cx="3235320" cy="2427120"/>
          </a:xfrm>
          <a:prstGeom prst="rect">
            <a:avLst/>
          </a:prstGeom>
          <a:ln w="0">
            <a:noFill/>
          </a:ln>
        </p:spPr>
      </p:pic>
      <p:pic>
        <p:nvPicPr>
          <p:cNvPr id="894" name="" descr=""/>
          <p:cNvPicPr/>
          <p:nvPr/>
        </p:nvPicPr>
        <p:blipFill>
          <a:blip r:embed="rId4"/>
          <a:stretch/>
        </p:blipFill>
        <p:spPr>
          <a:xfrm>
            <a:off x="4776840" y="3573360"/>
            <a:ext cx="3395520" cy="2544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" dur="500" fill="hold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" dur="250" autoRev="1" fill="hold"/>
                                        <p:tgtEl>
                                          <p:spTgt spid="89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3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" dur="500" fill="hold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6" dur="250" autoRev="1" fill="hold"/>
                                        <p:tgtEl>
                                          <p:spTgt spid="89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5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896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7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899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40360" cy="2430720"/>
          </a:xfrm>
          <a:prstGeom prst="rect">
            <a:avLst/>
          </a:prstGeom>
          <a:ln w="0">
            <a:noFill/>
          </a:ln>
        </p:spPr>
      </p:pic>
      <p:pic>
        <p:nvPicPr>
          <p:cNvPr id="900" name="" descr=""/>
          <p:cNvPicPr/>
          <p:nvPr/>
        </p:nvPicPr>
        <p:blipFill>
          <a:blip r:embed="rId4"/>
          <a:stretch/>
        </p:blipFill>
        <p:spPr>
          <a:xfrm>
            <a:off x="4813200" y="3500280"/>
            <a:ext cx="3294000" cy="248292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0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" dur="500" fill="hold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" dur="250" autoRev="1" fill="hold"/>
                                        <p:tgtEl>
                                          <p:spTgt spid="89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5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 fill="hold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8" dur="250" autoRev="1" fill="hold"/>
                                        <p:tgtEl>
                                          <p:spTgt spid="900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1" name=""/>
          <p:cNvGrpSpPr/>
          <p:nvPr/>
        </p:nvGrpSpPr>
        <p:grpSpPr>
          <a:xfrm>
            <a:off x="457200" y="274680"/>
            <a:ext cx="8229600" cy="1334880"/>
            <a:chOff x="457200" y="274680"/>
            <a:chExt cx="8229600" cy="1334880"/>
          </a:xfrm>
        </p:grpSpPr>
        <p:pic>
          <p:nvPicPr>
            <p:cNvPr id="902" name="" descr=""/>
            <p:cNvPicPr/>
            <p:nvPr/>
          </p:nvPicPr>
          <p:blipFill>
            <a:blip r:embed="rId2"/>
            <a:stretch/>
          </p:blipFill>
          <p:spPr>
            <a:xfrm>
              <a:off x="457200" y="274680"/>
              <a:ext cx="8229600" cy="133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3" name=""/>
            <p:cNvSpPr/>
            <p:nvPr/>
          </p:nvSpPr>
          <p:spPr>
            <a:xfrm>
              <a:off x="457200" y="274680"/>
              <a:ext cx="8229600" cy="133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onstantia"/>
              </a:endParaRPr>
            </a:p>
          </p:txBody>
        </p:sp>
      </p:grpSp>
      <p:sp>
        <p:nvSpPr>
          <p:cNvPr id="904" name=""/>
          <p:cNvSpPr/>
          <p:nvPr/>
        </p:nvSpPr>
        <p:spPr>
          <a:xfrm>
            <a:off x="457200" y="160020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05" name="" descr=""/>
          <p:cNvPicPr/>
          <p:nvPr/>
        </p:nvPicPr>
        <p:blipFill>
          <a:blip r:embed="rId3"/>
          <a:stretch/>
        </p:blipFill>
        <p:spPr>
          <a:xfrm>
            <a:off x="1187280" y="1628640"/>
            <a:ext cx="3264120" cy="2448000"/>
          </a:xfrm>
          <a:prstGeom prst="rect">
            <a:avLst/>
          </a:prstGeom>
          <a:ln w="0">
            <a:noFill/>
          </a:ln>
        </p:spPr>
      </p:pic>
      <p:pic>
        <p:nvPicPr>
          <p:cNvPr id="906" name="" descr=""/>
          <p:cNvPicPr/>
          <p:nvPr/>
        </p:nvPicPr>
        <p:blipFill>
          <a:blip r:embed="rId4"/>
          <a:stretch/>
        </p:blipFill>
        <p:spPr>
          <a:xfrm>
            <a:off x="5003640" y="3417840"/>
            <a:ext cx="2803680" cy="280368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2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" dur="500" fill="hold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5" dur="250" autoRev="1" fill="hold"/>
                                        <p:tgtEl>
                                          <p:spTgt spid="90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57" dur="indefinite" nodeType="click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dur="indefinite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9" dur="500" fill="hold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0" dur="250" autoRev="1" fill="hold"/>
                                        <p:tgtEl>
                                          <p:spTgt spid="90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"/>
          <p:cNvSpPr/>
          <p:nvPr/>
        </p:nvSpPr>
        <p:spPr>
          <a:xfrm>
            <a:off x="539640" y="476280"/>
            <a:ext cx="8229600" cy="470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  <a:p>
            <a:pPr marL="13644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501480"/>
                <a:tab algn="l" pos="1415880"/>
                <a:tab algn="l" pos="2330280"/>
                <a:tab algn="l" pos="3244680"/>
                <a:tab algn="l" pos="4159080"/>
                <a:tab algn="l" pos="5073480"/>
                <a:tab algn="l" pos="5987880"/>
                <a:tab algn="l" pos="6902280"/>
                <a:tab algn="l" pos="7816680"/>
                <a:tab algn="l" pos="8731080"/>
                <a:tab algn="l" pos="9645480"/>
                <a:tab algn="l" pos="9883800"/>
                <a:tab algn="l" pos="10333080"/>
                <a:tab algn="l" pos="1078236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  <a:ea typeface="Lucida Sans Unicode"/>
              </a:rPr>
              <a:t>земля/вода=воздух/огонь.</a:t>
            </a:r>
            <a:endParaRPr b="0" lang="en-US" sz="5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6:38:56Z</dcterms:created>
  <dc:creator>Админ</dc:creator>
  <dc:description/>
  <dc:language>en-US</dc:language>
  <cp:lastModifiedBy>Админ</cp:lastModifiedBy>
  <dcterms:modified xsi:type="dcterms:W3CDTF">2011-06-07T08:16:08Z</dcterms:modified>
  <cp:revision>34</cp:revision>
  <dc:subject/>
  <dc:title>Презентация PowerPoint</dc:title>
</cp:coreProperties>
</file>